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wmf" ContentType="image/x-wmf"/>
  <Override PartName="/ppt/media/image6.png" ContentType="image/png"/>
  <Override PartName="/ppt/media/image14.wmf" ContentType="image/x-wmf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445-F04D-423A-9B94-9F8A7D27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C01-A599-4C64-B210-600F4BBF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ED2-AA3E-4E54-8008-54F6B272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59B-64C7-42FC-8F49-61D2E623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363-7F17-4400-B257-3187CA8F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3A5-DD22-4D46-A6D3-FDD2CAF7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169-C214-482C-AAC8-5419A006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585-0416-49D7-A236-710612D5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327-0BCC-4BB1-923F-E2015A70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5DA-D111-4879-ADD2-170FF0A2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D6A-4414-49DC-903E-F5706DE1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C4D-4E13-412D-97D4-76F123CF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EC26-B82E-4955-A0A4-34FDF9783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5" descr=""/>
          <p:cNvPicPr/>
          <p:nvPr/>
        </p:nvPicPr>
        <p:blipFill>
          <a:blip r:embed="rId1"/>
          <a:stretch/>
        </p:blipFill>
        <p:spPr>
          <a:xfrm>
            <a:off x="55440" y="4896000"/>
            <a:ext cx="5911920" cy="1498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6705720" y="1371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012080" y="5335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738480" y="297180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Fun 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973560" y="22096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Car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tree.JPG"/>
          <p:cNvPicPr/>
          <p:nvPr/>
        </p:nvPicPr>
        <p:blipFill>
          <a:blip r:embed="rId2"/>
          <a:stretch/>
        </p:blipFill>
        <p:spPr>
          <a:xfrm>
            <a:off x="6477120" y="3733920"/>
            <a:ext cx="2361960" cy="287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5181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00800" y="60948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have been married for 18 years this coming Augu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324480" y="266688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a BEAUTIFUL daughter named Paige ~ she is 5 years old  (going on 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400800" y="4952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ogs and 2 cats round out the fami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IMG_4680.JPG"/>
          <p:cNvPicPr/>
          <p:nvPr/>
        </p:nvPicPr>
        <p:blipFill>
          <a:blip r:embed="rId1"/>
          <a:stretch/>
        </p:blipFill>
        <p:spPr>
          <a:xfrm rot="325800">
            <a:off x="2655720" y="608040"/>
            <a:ext cx="3308400" cy="248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ige5g.jpg"/>
          <p:cNvPicPr/>
          <p:nvPr/>
        </p:nvPicPr>
        <p:blipFill>
          <a:blip r:embed="rId2"/>
          <a:stretch/>
        </p:blipFill>
        <p:spPr>
          <a:xfrm rot="20818800">
            <a:off x="863640" y="565200"/>
            <a:ext cx="2019240" cy="338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Documents and Settings\Dawn Lewallen\Local Settings\Temporary Internet Files\Content.IE5\QYA2ODLP\MCj04421340000[1].png"/>
          <p:cNvPicPr/>
          <p:nvPr/>
        </p:nvPicPr>
        <p:blipFill>
          <a:blip r:embed="rId3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sp>
        <p:nvSpPr>
          <p:cNvPr id="58" name="Straight Connector 12"/>
          <p:cNvSpPr/>
          <p:nvPr/>
        </p:nvSpPr>
        <p:spPr>
          <a:xfrm>
            <a:off x="6324480" y="2209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"/>
          <p:cNvSpPr/>
          <p:nvPr/>
        </p:nvSpPr>
        <p:spPr>
          <a:xfrm>
            <a:off x="6324480" y="46483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:\Documents and Settings\Dawn Lewallen\Local Settings\Temporary Internet Files\Content.IE5\55H6Y71M\MCj04238900000[1].wmf"/>
          <p:cNvPicPr/>
          <p:nvPr/>
        </p:nvPicPr>
        <p:blipFill>
          <a:blip r:embed="rId4"/>
          <a:stretch/>
        </p:blipFill>
        <p:spPr>
          <a:xfrm>
            <a:off x="1219320" y="4343400"/>
            <a:ext cx="188568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Documents and Settings\Dawn Lewallen\Local Settings\Temporary Internet Files\Content.IE5\GGLKVB19\MCj04258440000[1].wmf"/>
          <p:cNvPicPr/>
          <p:nvPr/>
        </p:nvPicPr>
        <p:blipFill>
          <a:blip r:embed="rId5"/>
          <a:stretch/>
        </p:blipFill>
        <p:spPr>
          <a:xfrm>
            <a:off x="3429000" y="3657600"/>
            <a:ext cx="18003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realestateparkercolorado.com/schools/seal-usc.jpg"/>
          <p:cNvPicPr/>
          <p:nvPr/>
        </p:nvPicPr>
        <p:blipFill>
          <a:blip r:embed="rId1"/>
          <a:stretch/>
        </p:blipFill>
        <p:spPr>
          <a:xfrm>
            <a:off x="685800" y="2438280"/>
            <a:ext cx="2171880" cy="221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davescampus.com/images/college-logos/metropolitan-state-college-of-denver.gif"/>
          <p:cNvPicPr/>
          <p:nvPr/>
        </p:nvPicPr>
        <p:blipFill>
          <a:blip r:embed="rId2"/>
          <a:stretch/>
        </p:blipFill>
        <p:spPr>
          <a:xfrm>
            <a:off x="3048120" y="24382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andrewshelpfulhands.com/awards/LesleyLogoBox-colorWEB.jpg"/>
          <p:cNvPicPr/>
          <p:nvPr/>
        </p:nvPicPr>
        <p:blipFill>
          <a:blip r:embed="rId3"/>
          <a:stretch/>
        </p:blipFill>
        <p:spPr>
          <a:xfrm>
            <a:off x="762120" y="4952880"/>
            <a:ext cx="4438440" cy="1543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www.greeleygov.com/CMO/WebImages/UNC.jpg"/>
          <p:cNvPicPr/>
          <p:nvPr/>
        </p:nvPicPr>
        <p:blipFill>
          <a:blip r:embed="rId4"/>
          <a:stretch/>
        </p:blipFill>
        <p:spPr>
          <a:xfrm>
            <a:off x="838080" y="380880"/>
            <a:ext cx="4343400" cy="1658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C:\Documents and Settings\Dawn Lewallen\Local Settings\Temporary Internet Files\Content.IE5\QYA2ODLP\MCj04421340000[1].png"/>
          <p:cNvPicPr/>
          <p:nvPr/>
        </p:nvPicPr>
        <p:blipFill>
          <a:blip r:embed="rId5"/>
          <a:stretch/>
        </p:blipFill>
        <p:spPr>
          <a:xfrm>
            <a:off x="8305920" y="6248520"/>
            <a:ext cx="614160" cy="609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6324480" y="152280"/>
            <a:ext cx="26672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 graduated with a Bachelor of Arts in English from the  University of Southern Colorado (now known as Colorado State University of Pueblo) in 1991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6324480" y="1981080"/>
            <a:ext cx="25146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n 2004 I received my teaching certificate upon completion of  Metro’s education program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400800" y="3276720"/>
            <a:ext cx="2590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  returned to school and in 2001 obtained a Masters in Education  in Curriculum and Instruction with specialization in literacy from Lesley Universit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324480" y="5105520"/>
            <a:ext cx="26672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Currently I am enrolled in UNC’s graduate program working toward my Masters in School Library Progra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13"/>
          <p:cNvSpPr/>
          <p:nvPr/>
        </p:nvSpPr>
        <p:spPr>
          <a:xfrm>
            <a:off x="6324480" y="19051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14"/>
          <p:cNvSpPr/>
          <p:nvPr/>
        </p:nvSpPr>
        <p:spPr>
          <a:xfrm>
            <a:off x="6324480" y="3200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5"/>
          <p:cNvSpPr/>
          <p:nvPr/>
        </p:nvSpPr>
        <p:spPr>
          <a:xfrm>
            <a:off x="6324480" y="50292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Dawn Lewallen\Local Settings\Temporary Internet Files\Content.IE5\2A53T7DN\MPj04394640000[1].jpg"/>
          <p:cNvPicPr/>
          <p:nvPr/>
        </p:nvPicPr>
        <p:blipFill>
          <a:blip r:embed="rId1"/>
          <a:stretch/>
        </p:blipFill>
        <p:spPr>
          <a:xfrm rot="21006000">
            <a:off x="325440" y="360000"/>
            <a:ext cx="1727280" cy="215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Dawn Lewallen\Local Settings\Temporary Internet Files\Content.IE5\UR5QFUYZ\MCj04237960000[1].wmf"/>
          <p:cNvPicPr/>
          <p:nvPr/>
        </p:nvPicPr>
        <p:blipFill>
          <a:blip r:embed="rId2"/>
          <a:stretch/>
        </p:blipFill>
        <p:spPr>
          <a:xfrm rot="608400">
            <a:off x="3816000" y="4025880"/>
            <a:ext cx="176220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://www.acsd1.k12.co.us/resources/images/dewey.jpg"/>
          <p:cNvPicPr/>
          <p:nvPr/>
        </p:nvPicPr>
        <p:blipFill>
          <a:blip r:embed="rId3"/>
          <a:stretch/>
        </p:blipFill>
        <p:spPr>
          <a:xfrm>
            <a:off x="2514600" y="228600"/>
            <a:ext cx="2381400" cy="119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C:\Documents and Settings\Dawn Lewallen\Local Settings\Temporary Internet Files\Content.IE5\QYA2ODLP\MCj04421340000[1].png"/>
          <p:cNvPicPr/>
          <p:nvPr/>
        </p:nvPicPr>
        <p:blipFill>
          <a:blip r:embed="rId4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images.google.com/url?source=imgres&amp;ct=tbn&amp;q=http://legacy.adams12.org/images/lhs-front.gif&amp;usg=AFQjCNFDhmdORxiPN4G9U3LnymOJE7qN_Q"/>
          <p:cNvPicPr/>
          <p:nvPr/>
        </p:nvPicPr>
        <p:blipFill>
          <a:blip r:embed="rId5"/>
          <a:stretch/>
        </p:blipFill>
        <p:spPr>
          <a:xfrm>
            <a:off x="3581280" y="1828800"/>
            <a:ext cx="2057400" cy="1400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images.google.com/url?source=imgres&amp;ct=tbn&amp;q=http://www.beaconcom.com/images/education/Silver_Hills_Middle_School.jpg&amp;usg=AFQjCNFN0R0Vxpd23mKK-Pn5Twrf7s40_g"/>
          <p:cNvPicPr/>
          <p:nvPr/>
        </p:nvPicPr>
        <p:blipFill>
          <a:blip r:embed="rId6"/>
          <a:stretch/>
        </p:blipFill>
        <p:spPr>
          <a:xfrm>
            <a:off x="762120" y="3124080"/>
            <a:ext cx="2390760" cy="108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7"/>
          <a:stretch/>
        </p:blipFill>
        <p:spPr>
          <a:xfrm>
            <a:off x="533520" y="4800600"/>
            <a:ext cx="2619360" cy="1552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1"/>
          <p:cNvSpPr/>
          <p:nvPr/>
        </p:nvSpPr>
        <p:spPr>
          <a:xfrm>
            <a:off x="2598480" y="1066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ohn Dewey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3738960" y="28195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acy 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1380240" y="38098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lver Hills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60948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tho E Stuart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400800" y="2286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hn Dewey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4-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6400800" y="121932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ons Middle/Seni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 and Social Stud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-20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400800" y="243828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H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1-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400800" y="34290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ver Hills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7-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400800" y="4419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8-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6400800" y="541008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o E Stuart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i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9 - Pres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21"/>
          <p:cNvSpPr/>
          <p:nvPr/>
        </p:nvSpPr>
        <p:spPr>
          <a:xfrm>
            <a:off x="6324480" y="23623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22"/>
          <p:cNvSpPr/>
          <p:nvPr/>
        </p:nvSpPr>
        <p:spPr>
          <a:xfrm>
            <a:off x="6324480" y="11430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23"/>
          <p:cNvSpPr/>
          <p:nvPr/>
        </p:nvSpPr>
        <p:spPr>
          <a:xfrm>
            <a:off x="6324480" y="3352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24"/>
          <p:cNvSpPr/>
          <p:nvPr/>
        </p:nvSpPr>
        <p:spPr>
          <a:xfrm>
            <a:off x="6324480" y="4343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25"/>
          <p:cNvSpPr/>
          <p:nvPr/>
        </p:nvSpPr>
        <p:spPr>
          <a:xfrm>
            <a:off x="6324480" y="53341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C:\Documents and Settings\Dawn Lewallen\Local Settings\Temporary Internet Files\Content.IE5\QYA2ODLP\MCj04421340000[1].png"/>
          <p:cNvPicPr/>
          <p:nvPr/>
        </p:nvPicPr>
        <p:blipFill>
          <a:blip r:embed="rId1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Dawn Lewallen\Local Settings\Temporary Internet Files\Content.IE5\55H6Y71M\MPj04013240000[1].jpg"/>
          <p:cNvPicPr/>
          <p:nvPr/>
        </p:nvPicPr>
        <p:blipFill>
          <a:blip r:embed="rId2"/>
          <a:stretch/>
        </p:blipFill>
        <p:spPr>
          <a:xfrm rot="20550600">
            <a:off x="609120" y="761760"/>
            <a:ext cx="2103480" cy="1401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Dawn Lewallen\Local Settings\Temporary Internet Files\Content.IE5\M566W5RH\MCj04300490000[1].wmf"/>
          <p:cNvPicPr/>
          <p:nvPr/>
        </p:nvPicPr>
        <p:blipFill>
          <a:blip r:embed="rId3"/>
          <a:stretch/>
        </p:blipFill>
        <p:spPr>
          <a:xfrm>
            <a:off x="3429000" y="121932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Dawn Lewallen\Local Settings\Temporary Internet Files\Content.IE5\QYO78TJJ\MPj04309930000[1].jpg"/>
          <p:cNvPicPr/>
          <p:nvPr/>
        </p:nvPicPr>
        <p:blipFill>
          <a:blip r:embed="rId4"/>
          <a:stretch/>
        </p:blipFill>
        <p:spPr>
          <a:xfrm rot="714600">
            <a:off x="1981080" y="2770200"/>
            <a:ext cx="117324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Documents and Settings\Dawn Lewallen\Local Settings\Temporary Internet Files\Content.IE5\2A53T7DN\MPj04442300000[1].jpg"/>
          <p:cNvPicPr/>
          <p:nvPr/>
        </p:nvPicPr>
        <p:blipFill>
          <a:blip r:embed="rId5"/>
          <a:stretch/>
        </p:blipFill>
        <p:spPr>
          <a:xfrm>
            <a:off x="3962520" y="3657600"/>
            <a:ext cx="1477800" cy="221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Documents and Settings\Dawn Lewallen\Local Settings\Temporary Internet Files\Content.IE5\2A53T7DN\MPj03829160000[1].jpg"/>
          <p:cNvPicPr/>
          <p:nvPr/>
        </p:nvPicPr>
        <p:blipFill>
          <a:blip r:embed="rId6"/>
          <a:stretch/>
        </p:blipFill>
        <p:spPr>
          <a:xfrm rot="21092400">
            <a:off x="380880" y="5028840"/>
            <a:ext cx="2027520" cy="1447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6324480" y="22860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as born in Alaska and have lived in New Jersey (say it with me, waurder – dawg – kawfee), Wisconsin, Florida, and Color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6324480" y="1828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vid reader, I was sent to the principal’s office in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de for “speed reading” (gas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6324480" y="33526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enjoy taking photos and have a weird fascination with trees (ever since I read Orson Scott Card’s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aker for the De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6324480" y="48006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all-time favorite place to visit is Boston!  We’ll see if that stays at the top once we’ve hit England.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15"/>
          <p:cNvSpPr/>
          <p:nvPr/>
        </p:nvSpPr>
        <p:spPr>
          <a:xfrm>
            <a:off x="6324480" y="16765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traight Connector 16"/>
          <p:cNvSpPr/>
          <p:nvPr/>
        </p:nvSpPr>
        <p:spPr>
          <a:xfrm>
            <a:off x="6324480" y="3200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248520" y="4724280"/>
            <a:ext cx="2590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6:49:50Z</dcterms:created>
  <dc:creator> </dc:creator>
  <dc:description/>
  <dc:language>en-US</dc:language>
  <cp:lastModifiedBy> </cp:lastModifiedBy>
  <dcterms:modified xsi:type="dcterms:W3CDTF">2009-12-13T16:02:18Z</dcterms:modified>
  <cp:revision>26</cp:revision>
  <dc:subject/>
  <dc:title>Slide 1</dc:title>
</cp:coreProperties>
</file>